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9E2CB-C519-4465-8F4B-9EBF9E3CC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FDB18-268F-46AC-9903-CDCB6DC9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49CC7-C879-445D-9B09-32835E77E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F733A-174A-4385-86C1-8E904ADE2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31FA1-FE72-4E9A-9B3B-53E221004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A95E-379B-4D38-8B85-782F9171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8567-0CD4-484F-9F14-4FF3A71E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3C66A-85DA-4EA9-813F-466D1744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0AE9-8969-486F-ACD4-35FDE583A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49D3-CA71-42E6-BA73-BB1E9C8CD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A8D2E-4F9E-4975-BC93-1F170BA45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4879-CE4E-44DE-86B1-CB8DA0DB0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E468-3BE9-4D24-B2FD-82B36201C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2" name="PlaceHolder 2"/>
          <p:cNvSpPr>
            <a:spLocks noGrp="1"/>
          </p:cNvSpPr>
          <p:nvPr>
            <p:ph type="subTitle"/>
          </p:nvPr>
        </p:nvSpPr>
        <p:spPr>
          <a:xfrm>
            <a:off x="533160" y="1143000"/>
            <a:ext cx="8305560" cy="502920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data-collection tools – operational level not involv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ubmission and inconsistencies in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uman resources, staff turnov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loa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standardized reporting from private sector</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Solutions</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600"/>
            <a:ext cx="838188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these stakeholders in the design of systems to ensure they use them and perform cost-benefit analysis to show policymakers the importance of data use.</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level managers should have better training. They also need to develop a curriculum and build capacity at district level.</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nforce need for feedback in support and supervision visi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ze needs for use of information, put the data in context, indicator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Challenges</a:t>
            </a:r>
            <a:endParaRPr b="0" lang="en-US" sz="3200" spc="-1" strike="noStrike">
              <a:solidFill>
                <a:srgbClr val="000000"/>
              </a:solidFill>
              <a:latin typeface="Arial"/>
            </a:endParaRPr>
          </a:p>
        </p:txBody>
      </p:sp>
      <p:sp>
        <p:nvSpPr>
          <p:cNvPr id="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staff involved in design; too much data is being collec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iad of reporting formats, according to type of services (NGOs, FBOs), periodicity (inconsis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6" name="PlaceHolder 2"/>
          <p:cNvSpPr>
            <a:spLocks noGrp="1"/>
          </p:cNvSpPr>
          <p:nvPr>
            <p:ph type="subTitle"/>
          </p:nvPr>
        </p:nvSpPr>
        <p:spPr>
          <a:xfrm>
            <a:off x="456840" y="1142640"/>
            <a:ext cx="8381880" cy="5181480"/>
          </a:xfrm>
          <a:prstGeom prst="rect">
            <a:avLst/>
          </a:prstGeom>
          <a:noFill/>
          <a:ln w="0">
            <a:noFill/>
          </a:ln>
        </p:spPr>
        <p:txBody>
          <a:bodyPr lIns="90000" rIns="9000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 lower levels and other stakeholders in design of tools, and include more tool pre-testing at this level</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roper training on M&amp;E and reporting, software to ease data entry and compilation.  Increase awareness of the need for timely reporting. Make sure staff understand why data are needed and how data are used. </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 and increased political commitment and collaboration with NGOs to assist. Include training to address human-resource challenge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data-collection tool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posts (funded!)</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ivate-sector training. Create awareness of NTP policies, supervision of the private sector, and restrict license renewal pending reformed data collection.  Use “sticks and carrots” to enforce reporting by the private s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HMIS – Solution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operational-level staff in the design of for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the various existing reporting forms with one national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Challenges</a:t>
            </a:r>
            <a:endParaRPr b="0" lang="en-US" sz="3200" spc="-1" strike="noStrike">
              <a:solidFill>
                <a:srgbClr val="000000"/>
              </a:solidFill>
              <a:latin typeface="Arial"/>
            </a:endParaRPr>
          </a:p>
        </p:txBody>
      </p:sp>
      <p:sp>
        <p:nvSpPr>
          <p:cNvPr id="50" name="PlaceHolder 2"/>
          <p:cNvSpPr>
            <a:spLocks noGrp="1"/>
          </p:cNvSpPr>
          <p:nvPr>
            <p:ph type="subTitle"/>
          </p:nvPr>
        </p:nvSpPr>
        <p:spPr>
          <a:xfrm>
            <a:off x="38088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 turnover, especially in high-HIV prevalence areas, staff need a lot of train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ness in recording and poor attitudes towards recording</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inconsistency; cases show up in one register but not the othe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ngulation is not don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i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 Solutions</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240"/>
            <a:ext cx="838188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s continuing CMEs, create awareness about the need for dat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progress-review meetings, including quality of data as a topic to be covered.</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 supportive super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Challenge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1371240"/>
            <a:ext cx="64008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re only forwarded up to next level, no self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ssment - Solutions</a:t>
            </a:r>
            <a:endParaRPr b="0" lang="en-US" sz="3200" spc="-1" strike="noStrike">
              <a:solidFill>
                <a:srgbClr val="000000"/>
              </a:solidFill>
              <a:latin typeface="Arial"/>
            </a:endParaRPr>
          </a:p>
        </p:txBody>
      </p:sp>
      <p:sp>
        <p:nvSpPr>
          <p:cNvPr id="56" name="PlaceHolder 2"/>
          <p:cNvSpPr>
            <a:spLocks noGrp="1"/>
          </p:cNvSpPr>
          <p:nvPr>
            <p:ph type="subTitle"/>
          </p:nvPr>
        </p:nvSpPr>
        <p:spPr>
          <a:xfrm>
            <a:off x="1371600" y="1371600"/>
            <a:ext cx="640080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use of the indicators at facility level as a management t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 - Challenges</a:t>
            </a:r>
            <a:endParaRPr b="0" lang="en-US" sz="3200" spc="-1" strike="noStrike">
              <a:solidFill>
                <a:srgbClr val="000000"/>
              </a:solidFill>
              <a:latin typeface="Arial"/>
            </a:endParaRPr>
          </a:p>
        </p:txBody>
      </p:sp>
      <p:sp>
        <p:nvSpPr>
          <p:cNvPr id="58" name="PlaceHolder 2"/>
          <p:cNvSpPr>
            <a:spLocks noGrp="1"/>
          </p:cNvSpPr>
          <p:nvPr>
            <p:ph type="subTitle"/>
          </p:nvPr>
        </p:nvSpPr>
        <p:spPr>
          <a:xfrm>
            <a:off x="457200" y="1371600"/>
            <a:ext cx="8305920" cy="51055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not used by decision-makers.</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lot of training, beyond international courses such as Arush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idity in targets</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feed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7:43:19Z</dcterms:created>
  <dc:creator>Charlotte Colvin</dc:creator>
  <dc:description/>
  <dc:language>en-US</dc:language>
  <cp:lastModifiedBy>Carolina Population Center</cp:lastModifiedBy>
  <dcterms:modified xsi:type="dcterms:W3CDTF">2006-11-08T16:40:32Z</dcterms:modified>
  <cp:revision>4</cp:revision>
  <dc:subject/>
  <dc:title>Design of HMIS – Challenges</dc:title>
</cp:coreProperties>
</file>